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D58-B303-4374-9D11-C039480A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080-A97C-4FD0-8366-51BABE28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5B8-AE8B-4D9B-9FB6-7441316A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57C-6DE6-4F4C-AB49-FD7915E8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0A1D-B9E5-458C-94C5-03B9580B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9FA3-4A32-45DA-AC19-D53FC811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887C-250A-4134-8F67-B659E3FF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8EE6-1EE7-4C19-A3E8-F3ADEF15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3052-DA26-46DE-98F6-865DFE31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575E-0FC3-4756-AB90-28FC3D2F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09C3-9BC4-47BE-A99F-5EEE51B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490-13F2-4E0A-8D1D-D98FAFB3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F0A3-ED58-46C0-9F8D-5829F8D7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1212-B97F-4B7C-9EDD-638DD79C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2740-1A6F-4A12-A5F0-DC52D6ED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721E-2685-43AE-97FE-6BFF0828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AB1F-0D29-496B-9FA0-17475302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F58-FBE6-48D1-AEB2-4A4F0C08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6F0-A0E2-4BF8-804B-C805F182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22C-9C8F-40AE-8F7E-F722849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BD2-4810-45ED-A7B8-30ED82A8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3EA-8993-47C1-B58E-CFEB8EB9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37C-19E9-4F5E-88B4-D4C1804A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3F6-F5E6-4817-9BDE-968E0ED5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A88A-8A8D-4B9F-8192-050EC3FD51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F637-5AF5-45C2-A569-446C837482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d2-124-dg.pbwiki.com/final_presentations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ities-buildings.podomatic.com/" TargetMode="External"/><Relationship Id="rId3" Type="http://schemas.openxmlformats.org/officeDocument/2006/relationships/hyperlink" Target="http://vaestro.com/viewforum-368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63280" y="4076280"/>
            <a:ext cx="6769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9a9600"/>
                </a:solidFill>
                <a:latin typeface="Arial"/>
              </a:rPr>
              <a:t>Las Tecnologías de la Información y la Comunicación (TIC)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9a9600"/>
                </a:solidFill>
                <a:latin typeface="Arial"/>
              </a:rPr>
              <a:t>!Un “click” hacia el futuro educativo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76500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rnadas de Capacitació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uela Diocesana San Juan Bautista 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tituto Diocesano Pablo V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732720" y="184464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Página Principal"/>
          <p:cNvPicPr/>
          <p:nvPr/>
        </p:nvPicPr>
        <p:blipFill>
          <a:blip r:embed="rId2"/>
          <a:stretch/>
        </p:blipFill>
        <p:spPr>
          <a:xfrm>
            <a:off x="1476360" y="333360"/>
            <a:ext cx="1000080" cy="65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227640" y="1989000"/>
            <a:ext cx="2484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fne Gonzál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versidad Bolí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 de Julio, 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732A-4AAC-4DB2-9BDC-F73CCFA85B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73240"/>
            <a:ext cx="786924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a9600"/>
                </a:solidFill>
                <a:latin typeface="Verdana"/>
              </a:rPr>
              <a:t>Evaluación Alternativ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440" y="5661000"/>
            <a:ext cx="22626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Co-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Plan de evalu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portfolio.jpg"/>
          <p:cNvPicPr/>
          <p:nvPr/>
        </p:nvPicPr>
        <p:blipFill>
          <a:blip r:embed="rId2"/>
          <a:stretch/>
        </p:blipFill>
        <p:spPr>
          <a:xfrm>
            <a:off x="971640" y="1557360"/>
            <a:ext cx="2878200" cy="4029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211640" y="1773360"/>
            <a:ext cx="43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versal, Cont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2924280"/>
            <a:ext cx="2684520" cy="1983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Instrument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Rub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Listas de cot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D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Qu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2421000"/>
            <a:ext cx="358560" cy="2527560"/>
          </a:xfrm>
          <a:prstGeom prst="rect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3429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6000" y="5157720"/>
            <a:ext cx="48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Auto-evaluación, co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B2C-E8FA-4A43-8192-AD654A9F2D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63535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4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a9600"/>
                </a:solidFill>
                <a:latin typeface="Verdana"/>
              </a:rPr>
              <a:t>El Rol del Profes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20155800">
            <a:off x="3776040" y="357300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ES" sz="2400" spc="-1" strike="noStrike">
                <a:solidFill>
                  <a:srgbClr val="ffffe1"/>
                </a:solidFill>
                <a:latin typeface="Verdana"/>
              </a:rPr>
              <a:t>Cómo ha sido mi camb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e1"/>
                </a:solidFill>
                <a:latin typeface="Verdana"/>
              </a:rPr>
              <a:t>de profesora presen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e1"/>
                </a:solidFill>
                <a:latin typeface="Verdana"/>
              </a:rPr>
              <a:t>a profesora online o blen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97840" y="26370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urio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0240" y="32130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prender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la pr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7000" y="4149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7240" y="501336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Investigación-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760" y="54450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ertenecer a una C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4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8C2-276C-4883-A189-A2F7C7EB9C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5867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a9600"/>
                </a:solidFill>
                <a:latin typeface="Verdana"/>
              </a:rPr>
              <a:t>Un Ejempl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905440" cy="3664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046240" y="5805360"/>
            <a:ext cx="5892840" cy="3988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e1"/>
                </a:solidFill>
                <a:latin typeface="Arial"/>
              </a:rPr>
              <a:t>Curso de Inglés para Arquitectura y Urb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057-DA9C-4782-9E60-03F70A9C2F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69040" y="2133720"/>
            <a:ext cx="3404160" cy="33858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e1"/>
                </a:solidFill>
                <a:latin typeface="Verdana"/>
              </a:rPr>
              <a:t>Muchas Graci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e1"/>
                </a:solidFill>
                <a:latin typeface="Verdana"/>
              </a:rPr>
              <a:t>Dafne Gonzá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dygonza@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8520" y="333360"/>
            <a:ext cx="22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a9600"/>
                </a:solidFill>
                <a:latin typeface="Arial"/>
              </a:rPr>
              <a:t>Conta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7FC-9639-4741-A4F1-4E1EF96A51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9a9600"/>
                </a:solidFill>
                <a:latin typeface="Times New Roman"/>
              </a:rPr>
              <a:t>E-learning (TIC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5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endizaje mixto o híbrido (ble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endizaje en línea (onlin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35280" y="49417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05" name="computercartoon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1584360" cy="157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0836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87708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1BC-5884-4E61-8CA7-239CAD845A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313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58920" y="1844640"/>
            <a:ext cx="34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nc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tiempo re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6480" y="3573360"/>
            <a:ext cx="361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nc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tiempo poster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0464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a9600"/>
                </a:solidFill>
                <a:latin typeface="Arial"/>
              </a:rPr>
              <a:t>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844640"/>
            <a:ext cx="302400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Chat de texto o de 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Salas vir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Telefonía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3500280"/>
            <a:ext cx="2663640" cy="2014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Corre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Correo de 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Foros (texto y v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Wik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Podca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V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227664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563640" y="4076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A37-96B7-477F-B6D0-DA972672A8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781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5560" y="303480"/>
            <a:ext cx="774072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a9600"/>
                </a:solidFill>
                <a:latin typeface="Verdana"/>
              </a:rPr>
              <a:t>Nuevos Paradig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08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69800" y="1916280"/>
            <a:ext cx="268308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Teorías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9080" y="2637000"/>
            <a:ext cx="276084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Fuente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70880" y="3213000"/>
            <a:ext cx="357012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Herramientas de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4292640"/>
            <a:ext cx="1729080" cy="368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El estudi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5800" y="4221000"/>
            <a:ext cx="1881360" cy="368280"/>
          </a:xfrm>
          <a:prstGeom prst="rect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La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1800" y="5084640"/>
            <a:ext cx="1692360" cy="368280"/>
          </a:xfrm>
          <a:prstGeom prst="rect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La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5157720"/>
            <a:ext cx="1800360" cy="368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El prof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DB3-7A9C-4449-A4C3-5BADD6BE46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302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8744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4200" spc="-1" strike="noStrike">
                <a:solidFill>
                  <a:srgbClr val="9a9600"/>
                </a:solidFill>
                <a:latin typeface="Verdana"/>
              </a:rPr>
              <a:t>Conectivism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8343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rge Siemens: Nueva teoría de aprendizaje – Era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iquetas (tags)   -   Folksonomy  - R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03280" y="2647800"/>
            <a:ext cx="6913800" cy="394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7236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9B4-47DC-40BC-AB92-B58792E42D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5744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5605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a9600"/>
                </a:solidFill>
                <a:latin typeface="Verdana"/>
              </a:rPr>
              <a:t>El Mundo como Fuente</a:t>
            </a: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688000" cy="501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8760" y="481176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llage h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 Dennis O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Ar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9040" y="5603760"/>
            <a:ext cx="1137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Po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3"/>
              </a:rPr>
              <a:t>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388360" y="5373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766-3CF4-414F-9AD2-1A2C89CF01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6076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4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9600"/>
                </a:solidFill>
                <a:latin typeface="Verdana"/>
              </a:rPr>
              <a:t>Herramientas de Comunicación</a:t>
            </a: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257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23600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2A4-8C9A-44BD-8C94-09DB639A55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6531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560520"/>
            <a:ext cx="794232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a9600"/>
                </a:solidFill>
                <a:latin typeface="Verdana"/>
              </a:rPr>
              <a:t>El Estudian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23240" y="1628640"/>
            <a:ext cx="59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utónomo, auto-motivado, lector de hipertext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lenguaje iconográfico y CRI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0320" cy="381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8120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1E7-E965-4123-A318-03CB7F2D18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4201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74760"/>
            <a:ext cx="731340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a9600"/>
                </a:solidFill>
                <a:latin typeface="Verdana"/>
              </a:rPr>
              <a:t>Actividades Auténticas e Integrada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83760" y="618012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 de actividad de los alumnos de inglés para 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alanna.jpg"/>
          <p:cNvPicPr/>
          <p:nvPr/>
        </p:nvPicPr>
        <p:blipFill>
          <a:blip r:embed="rId1"/>
          <a:stretch/>
        </p:blipFill>
        <p:spPr>
          <a:xfrm>
            <a:off x="1692360" y="1600200"/>
            <a:ext cx="5759280" cy="4603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101080" y="436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83E-95D8-462D-B3DC-ED5AB87434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063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5:53:17Z</dcterms:created>
  <dc:creator>DAF</dc:creator>
  <dc:description/>
  <dc:language>en-US</dc:language>
  <cp:lastModifiedBy>DAF</cp:lastModifiedBy>
  <dcterms:modified xsi:type="dcterms:W3CDTF">2007-07-20T01:06:20Z</dcterms:modified>
  <cp:revision>34</cp:revision>
  <dc:subject/>
  <dc:title>E-learning</dc:title>
</cp:coreProperties>
</file>